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ported prevalence of gastrointestinal disorders in children with A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strointestinal Conditions in Children With Autism Spectrum Disorder: Developing a Research 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Daniel L. Coury, Paul Ashwood, Alessio Fasano, George Fuchs, Maureen Geraghty, Ajay Kaul, Gary Mawe, Paul Patterson, and Nancy E. J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edia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0(Supplement 2):S160-S1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American Academy of Pedia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9640" y="6732720"/>
            <a:ext cx="395928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ported prevalence of gastrointestinal disorders in children with AS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9640" y="6732720"/>
            <a:ext cx="3959280" cy="718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6760" y="1079640"/>
            <a:ext cx="82900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6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iel L. Coury et al. Pediatrics 2012;130:S160-S1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American Academy of Pedia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